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0AC-D622-49C9-B715-E1E5789E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79E-AD56-4847-AED5-1D0CFA1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537-FE55-443B-A566-C30C6368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3E-1349-4B9D-A411-BB2FA52A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703-E72A-4B07-904F-522B004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761-EDC7-4A62-8C82-D47B0B4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C79-5CC4-44E7-8602-B32068CD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7D5-5191-4455-A858-473E85E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B7F-3A53-48B6-A847-4AA7CB37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582-DDF1-4D2B-865A-5E3A30A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299-D34C-4E6F-A8E8-50E73CB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8DD-FB10-4DE6-BC40-E9EC7B0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A92-9422-4EF2-ACE5-3F8DA7BA4025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6CF9-2000-4DFC-831F-1E30E6574D5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876320" y="4532400"/>
            <a:ext cx="61772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표자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-ma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28880" y="1268280"/>
            <a:ext cx="61768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ctr" anchorCtr="1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</a:t>
            </a:r>
            <a:r>
              <a:rPr b="1" lang="en-US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em </a:t>
            </a: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3368520" y="47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36880" y="1195560"/>
            <a:ext cx="58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iz.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장점 및 차별화 포인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eds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요청사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자율적 추가 항목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) EX.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성장 로드맵 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전략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5. 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팀빌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 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자료 및 성과자료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7280" y="5448600"/>
            <a:ext cx="9001080" cy="85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고 </a:t>
            </a: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계획서는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필수 목차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3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개 항목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: 1. Biz. Model, 2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특장점 및 차별화 포인트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. Needs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및 요청사항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맞게 꼭 작성 </a:t>
            </a:r>
            <a:br>
              <a:rPr sz="1100"/>
            </a:b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부탁드리며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</a:t>
            </a:r>
            <a:r>
              <a:rPr b="1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추가 항목은 자율 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성장 로드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략 등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팀빌딩 등으로 자유롭게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5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까지 총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0Page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내 작성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본문 내용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자료 및 성과자료는 페이지 제한 없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모든 문서는 본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PT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양식에 작성 및 첨부하여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DF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로 변환 후 제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출시 파란색문구 삭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그룹 1"/>
          <p:cNvGrpSpPr/>
          <p:nvPr/>
        </p:nvGrpSpPr>
        <p:grpSpPr>
          <a:xfrm>
            <a:off x="554760" y="1627200"/>
            <a:ext cx="1453320" cy="3354480"/>
            <a:chOff x="554760" y="1627200"/>
            <a:chExt cx="1453320" cy="3354480"/>
          </a:xfrm>
        </p:grpSpPr>
        <p:sp>
          <p:nvSpPr>
            <p:cNvPr id="47" name="직사각형 2"/>
            <p:cNvSpPr/>
            <p:nvPr/>
          </p:nvSpPr>
          <p:spPr>
            <a:xfrm>
              <a:off x="554760" y="2492280"/>
              <a:ext cx="91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ff0000"/>
                  </a:solidFill>
                  <a:uFillTx/>
                  <a:latin typeface="맑은 고딕"/>
                  <a:ea typeface="맑은 고딕"/>
                </a:rPr>
                <a:t>필수 목차 항목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맑은 고딕"/>
                  <a:ea typeface="맑은 고딕"/>
                </a:rPr>
                <a:t>1, 2, 3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직선 연결선 8"/>
            <p:cNvSpPr/>
            <p:nvPr/>
          </p:nvSpPr>
          <p:spPr>
            <a:xfrm flipH="1">
              <a:off x="1712880" y="16272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직선 연결선 13"/>
            <p:cNvSpPr/>
            <p:nvPr/>
          </p:nvSpPr>
          <p:spPr>
            <a:xfrm flipH="1">
              <a:off x="1712880" y="221112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직선 연결선 14"/>
            <p:cNvSpPr/>
            <p:nvPr/>
          </p:nvSpPr>
          <p:spPr>
            <a:xfrm flipH="1">
              <a:off x="1712880" y="281304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직선 연결선 11"/>
            <p:cNvSpPr/>
            <p:nvPr/>
          </p:nvSpPr>
          <p:spPr>
            <a:xfrm>
              <a:off x="1712880" y="1627200"/>
              <a:ext cx="0" cy="334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직선 연결선 17"/>
            <p:cNvSpPr/>
            <p:nvPr/>
          </p:nvSpPr>
          <p:spPr>
            <a:xfrm flipH="1">
              <a:off x="1712880" y="498168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Biz. 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1800" y="981000"/>
            <a:ext cx="8642520" cy="15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Biz. Model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개략 설명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1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으로 부족하면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~3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도 가능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어떠한 일을 하는 사업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의 원리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구조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에 대한 이해관계자는 누구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시장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고객 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익모델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216160" y="2565360"/>
            <a:ext cx="720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 페이지의 주요 내용을 예시로 제시한 것이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항목을 일일이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%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맞추지 않아도 됨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페이지 동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6" name="연결선: 꺾임 3"/>
          <p:cNvCxnSpPr>
            <a:endCxn id="55" idx="1"/>
          </p:cNvCxnSpPr>
          <p:nvPr/>
        </p:nvCxnSpPr>
        <p:spPr>
          <a:xfrm>
            <a:off x="1208160" y="2462040"/>
            <a:ext cx="1008720" cy="36432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장점 및 차별화 포인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31800" y="981000"/>
            <a:ext cx="8642520" cy="146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자사의 특징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장점 및 차별화 포인트 요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사는 누구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사 대비 자사의 특장점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 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술적 우위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원가구조 등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경쟁에서 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urvive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할 수 있는 전략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Needs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요청사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31800" y="981000"/>
            <a:ext cx="8642520" cy="146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회사의 현재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Needs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및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K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대한 요청사항 요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재 회사가 처한 어려움이나 이슈가 있다면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향후 회사가 발전하기 위해 필요한 사항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SK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가 협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지원해야 할 내용은 무엇인가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31800" y="981000"/>
            <a:ext cx="90010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빌딩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대표이력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원구성 및 역량 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예상 매출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익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재무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rojection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및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BEP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IPR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내용 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실용신안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 출원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록 등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 자료증빙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업소개 및 추가자료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상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인증 및 기타성과 관련 증빙자료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 뒷장에 추가 및 설명</a:t>
            </a:r>
            <a:r>
              <a:rPr b="1" lang="en-US" sz="1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SeokBin Hwang</cp:lastModifiedBy>
  <cp:lastPrinted>2023-08-16T05:20:41Z</cp:lastPrinted>
  <dcterms:modified xsi:type="dcterms:W3CDTF">2025-04-03T23:14:24Z</dcterms:modified>
  <cp:revision>130</cp:revision>
  <dc:subject/>
  <dc:title>슬라이드 1</dc:title>
</cp:coreProperties>
</file>